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4FA-AE27-4869-8193-7C692187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89A-D664-4B9E-8AA0-14C97344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AF5-7897-43FB-9BE1-F972A630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56F-8E56-4365-B8C2-1533A49E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B01-7B32-471B-B7C2-91ACA2F2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A13-B1A0-41CB-9307-4B09B139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BF3-D0E2-46C2-878A-91FCDCBB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2FE-F038-43F4-B8A0-D3E1071A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04F-74D3-42C6-B4DA-C5DC87B4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768-C0C0-47BC-863D-40C22662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4C0-E4F2-4853-B921-DD0F64A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3A5-4368-4677-BEC7-E4269667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0E54-A425-4FCE-B471-558BE1D5D6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9962-2C08-469E-85DC-A2595442C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asa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3711-4749-46AB-9E63-F061A00F5A19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2E3E-1343-45F3-8369-1CB1731284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s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p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s presento a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técnica de medic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na $49,200 al año, o $4,100 al 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Vive con sus pa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iere aprender má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obre la propiedad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Disponibilidad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n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fuente de ingresos e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buen historial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habilidad de pagar deudas, hipoteca y otros gastos adiciona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es de mudarse en 2 o 3 añ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nero para una entrada y los gastos de la fir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ntrada y otros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9903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tr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Generalmente el 20% del precio de v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Opciones para una entrada más baja podrían estar disponibles (p. ej., el 3% del precio de vent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ros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</a:rPr>
              <a:t>Emergencias, reparaciones y otros gastos del hog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</a:rPr>
              <a:t>Seguro hipotecario privado (PM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g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yen capital e 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incluir PMI, impuestos de propiedad y seguro de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deberían ser más del 28% de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preguntas que debería hacer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ónde quiere vivi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tipo de vecindario qui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 hijos, ¿qué tipos de escuelas debería haber en el vecindari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espacio necesi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¿Está preparada Patricia para comprar una cas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gramas de asistencia para comprador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914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programas en su área, consult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prestamista o a su oficina del gobierno local sobre los programas de asistencia para compradores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agencia de asesoría de propiedad de vivienda aprobada por el Departamento de Vivienda y Desarrollo Urbano (HU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714920"/>
            <a:ext cx="228600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acterísticas de los programas gubernament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s de una entrada reduc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dares flexibles de subven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érminos más largos de pag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 formativo para propietarios de vivi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e discriminar en transacciones relacionadas a la vivienda en bas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ís de orí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tus famili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y de Equidad en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¿Tiene suficiente dinero Patricia para pagar la entr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se pagan los impuestos y el segu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 una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uenta de depósito en garant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La Ley de Procedimientos de Liquidación de Bienes Raíces (RESPA) limita el monto que necesita tener en una cuenta de depósito en garantí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r sepa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Usted es responsable de los pagos regul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3581280"/>
            <a:ext cx="137160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067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tro factores al decidir sobre préstam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6" descr=""/>
          <p:cNvPicPr/>
          <p:nvPr/>
        </p:nvPicPr>
        <p:blipFill>
          <a:blip r:embed="rId1"/>
          <a:stretch/>
        </p:blipFill>
        <p:spPr>
          <a:xfrm>
            <a:off x="1292400" y="1255680"/>
            <a:ext cx="66387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terminar el tamaño de la hipoteca que se puede permi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ificación prev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informa del tamaño de la hipoteca que se puede permit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ompromiso que hace el prestamista con usted de prestarl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352680" y="4784760"/>
            <a:ext cx="2362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lificación previa de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ificación previa de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imación genera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e 2 a 3 veces sus ingresos tot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Si recibe una calificación mayor, ¡piense en lo que se puede permiti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laciones deuda-ingresos (DT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ront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 gastos de la vivienda deberían ser menos del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in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stos de la vivienda + deudas de largo plazo deberían ser menos del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maño de hipoteca se puede permitir Patric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89160"/>
          <a:ext cx="8229600" cy="4572000"/>
        </p:xfrm>
        <a:graphic>
          <a:graphicData uri="http://schemas.openxmlformats.org/drawingml/2006/table">
            <a:tbl>
              <a:tblPr/>
              <a:tblGrid>
                <a:gridCol w="3810240"/>
                <a:gridCol w="4419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15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3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0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enos dinero prestado porque realiza pagos mensuales más alt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rápid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Intereses más bajos a pag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ba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ás dinero prestado porque realiza pagos mensuales más baj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lent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Se puede deducir más intereses de sus impuestos sobre la r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al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o de hipote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266840"/>
          <a:ext cx="8458200" cy="4998960"/>
        </p:xfrm>
        <a:graphic>
          <a:graphicData uri="http://schemas.openxmlformats.org/drawingml/2006/table">
            <a:tbl>
              <a:tblPr/>
              <a:tblGrid>
                <a:gridCol w="3276720"/>
                <a:gridCol w="5181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f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aju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No puede aumentar la tasa de inter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Pagos predec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de interés podrían disminuir por debajo de su tasa fi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 tasa de interés puede aumentar o disminu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podrían ser bajas sólo durante el periodo inici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mensualidades podrían empezar más bajas que los préstamos de tasa fija, pero luego subir considerable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Determinar qué opción hipotecaria es mejor para us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f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ajustabl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sólo-inter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pagos quince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tá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alquilar comparado con ser propietario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as preguntas que se deben hacer para saber si están preparad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términos básicos y divulgaciones necesarias usadas en una transacción hipoteca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solamente el interés (no el capital) durante un plazo fijo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(p. ej., 5 a 7 añ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pués del plazo fijo, pue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i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r el saldo de una v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mpezar a hacer pagos mensuales de la hipoteca para amortizar el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 los préstamos de sólo-interé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952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buena opción si uste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va a vivir en la casa más allá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ingresos modestos que aumentarán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á intentando resolver problemas crediticios para refinanciar su tasa a una tasa fija me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convenientes de los préstamo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pag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no cubrir todos los intereses que debe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, no le permiten generar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ueden ser imposibles de pagar después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Podría incurrir en gastos de refinanciación si ya no puede realizar los pag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de pagos quince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hipoteca convencional de tasa fija con pagos cada 2 sema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ñadir más dinero a su pago mens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segúrese de que el prestamista no le cobrará una penalización por pre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que, compare, nego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lte en periódicos e Internet para términos y tas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cie su mejor pre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j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e los prestamistas compitan para conseguirle como cl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da los gastos por escr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APR y GFE para comparar todos lo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imación de Buena 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imación de gastos de los servicios de liqui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recibe cuando solicita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 GFE para comparar con los costos finales de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 prestamista si hay algún camb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Man signing paperwork"/>
          <p:cNvPicPr/>
          <p:nvPr/>
        </p:nvPicPr>
        <p:blipFill>
          <a:blip r:embed="rId1"/>
          <a:stretch/>
        </p:blipFill>
        <p:spPr>
          <a:xfrm>
            <a:off x="3352680" y="4495680"/>
            <a:ext cx="2360880" cy="156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ja de trabajo de búsqueda de hipote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ley federal exige al prestamista o al agente qu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vulgue las estimaciones de cuánto costará el préstamo y la APR (Divulgación de Veracidad en los Préstam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diga una estimación de los gastos de la firma, y del dinero que va a necesitar en la firma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581280" y="4925880"/>
            <a:ext cx="2065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Ser elegible para un présta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ener una calificación previa y una 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a las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de asociación de vecinos al calcular sus gastos d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3056040" y="3809880"/>
            <a:ext cx="2506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4: ¿Es elegible Patricia para un préstam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4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 pregunta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ndo la relación deuda-ingresos excede la relación recomend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ún podría ser elegible para un préstamo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la habilidad de pagar más hacia los gastos del ho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estra pruebas de historial crediticio positivo y sos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una entrada consider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reservas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ersonas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las diferentes opciones para una hip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cómo las tasas de interés afectan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cómo los impuestos y el seguro afectan el pago mensual y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into paso: Realizar la liquid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1200" indent="-331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iquid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irma de documentos que finalizarán la venta de la casa y cualquier financiación hipotecari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recho de revisar la declaración de liquidación al menos un día antes de la firm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Tiene problemas con los pago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de inmediato con su prestam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da ayuda a un asesor inmobiliario reconocido que le ofrezca servicios gratuitos o de bajo cos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3048120" y="3962520"/>
            <a:ext cx="27432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provechar el capital de su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41768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sobre el capital de la vivien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ínea de crédito sobre el capital de una vivienda 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ación y refinanciación en efecti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s revert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858000" y="1905120"/>
            <a:ext cx="184788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990360"/>
            <a:ext cx="86868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único con una suma específ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suele ofrecer a una tasa de interés fij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mensuales iguales a lo largo de un periodo específic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40384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ínea de crédito sobre el capital de un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ciona como una tarjeta de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tiliza la línea de crédito cuando lo neces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 pagar el capital el crédito disponible vuelve 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 de interés normalmente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1430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dad para financiar grande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 de interés más baja qu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és se puede deducir de sus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iesgo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asa es la garant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la inmobiliaria puede dismin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/pagos pueden aument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tación de usar el dinero para inversiones o compras insensat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968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a cuidadoso y autodiscipli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s derechos bajo la ley fed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3 días hábiles después de firmar los documentos del préstamo para cancelar el acuerdo sin penaliz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be cancelar el acuerdo por escr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l prestamista debe devolverle cualquier costo o cargo de financiación que haya pa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se aplica si está comprando una casa o refinanciando sin tomar más dinero pr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ciones de refinanci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34136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para vivienda existente es pagado y reemplazado por un préstamo nuev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 de refinanciación en efectivo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tomar más dinero prestado de lo que debe en el préstamo que va a sustit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Small model home"/>
          <p:cNvPicPr/>
          <p:nvPr/>
        </p:nvPicPr>
        <p:blipFill>
          <a:blip r:embed="rId1"/>
          <a:stretch/>
        </p:blipFill>
        <p:spPr>
          <a:xfrm>
            <a:off x="3038400" y="4341960"/>
            <a:ext cx="25243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actual: $100,000 al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 un total de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idad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iere $20,000 para hacer reform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 propietario de una vivien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tomar dinero prestado contra el valor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qué pueden hacer si están teniendo problemas para cumplir con los pa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opciones de refinanci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una hipoteca revert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prácticas abusivas de préstamos y timos en los préstam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asa de interés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ensualidad: $642.90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87,000 a $522.73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éstamo sobre el capital de la vivienda: $20,000 a 7.36% x 2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revert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990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ar prestado contra el capital de la vivienda para recibir dinero en efectiv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v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Mediante pag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o una línea de crédito que usa cuando neces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pietarios deben tener al menos 62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 menos un titular debe vivir en la casa durante la mayor parte del añ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po de casa debe ser ele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ideraciones de la hipoteca revertid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428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devolver el préstamo + intereses cuando vende, se muda o mu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El monto que debe asciende con el tiemp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gue pagando los impuestos de propiedad, el seguro y repar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heredero debe devolver el préstamo si se queda con la ca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suma que tiene que pagar por adelantado hace que los primeros años sean bastante costos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ácticas de marketing, prácticas de cobro y plazos de préstamos que engañan y abusan de los consumidores que piden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amento de Vivienda y Desarrollo 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ancia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curso para personas que han comprado una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gencias de asesoría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 HUD par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lista de agencias de asesoría para viviendas aprobadas por HU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238880" y="1371600"/>
            <a:ext cx="163368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8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lquilar comparado con ser propietario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Preguntas que debe hacerse para determinar si está preparado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componente de una hipote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Diferentes opciones de hipoteca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provechar el capital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Inconvenientes y riesgos de una refinanciación hipotecaria insens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comprar o ser propietario de una cas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lquil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mantenimiento del inmue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ntrato de alquiler de 1 año o menos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costos asociados a ser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ted no es el d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alquiler podrí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posible que no pueda renovar su con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7162920" y="3200400"/>
            <a:ext cx="175716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r propietario de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enerar capital y tomar dinero prestado contra é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ena inver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tereses de la hipoteca desgrav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Un activo que puede dejar a su fam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tenimiento y reformas de la propi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es tan fácil mudarse como con alquil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esgo de perder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6934320" y="2209680"/>
            <a:ext cx="19969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inco pasos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comprar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el tamaño de la hipoteca que se puede permit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ón hipotecaria es mejor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elegible para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1-02-14T18:36:54Z</dcterms:modified>
  <cp:revision>6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